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%5B1%5D.wav" ContentType="audio/x-wav"/>
  <Override PartName="/ppt/media/applause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FEE-C2BA-4D04-9FDD-AE43CBE8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901-B5A5-470B-826B-1578501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0F4-DAE9-4DC0-A2DB-35379C41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F18-02B0-4833-A5B3-995B598B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BBF0-E324-4EB6-8A7D-B3C7634F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6A16-7A29-41DA-8430-9043AD2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5B4-C5C2-4BF4-950F-E581DD3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D590-E7FA-44AB-8D83-CB31BAB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956-4CB7-4D06-8591-0565BC0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6436-9058-4BD0-987D-8BADB8E3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C1E-2DE6-415F-A8DD-6AD348FA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8E7-9534-4DF9-B2D0-9516CC5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1858-C10C-4ABB-9C2F-B076A29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658-453B-4756-B87B-0A5E797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999F-1544-421C-AD81-0674CD13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5C8F-7BCE-43F8-BD00-6F509497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F2E-D8F6-4F88-889F-6C9B0585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E72-DE1B-46C4-AA66-E02356F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FC4-C29B-4AD4-BE3C-EB6FFE4C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7F5-BB25-4B13-9DAB-57D34B1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E3C-02A9-4485-B93A-29B3B19C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27-BCB4-4B29-AF94-D9D4FDA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7C2-6890-4DBD-A4DC-9D4427B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632-76A7-45D2-BD7F-7B875AE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5D80-5AF4-4914-AA1F-4BC26A0DB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66A-33C6-4E95-B551-324A06C80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%5B1%5D.wav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76320" y="533520"/>
            <a:ext cx="55152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Do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  A. P. Euro.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828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403848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B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00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Q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62320" y="5867280"/>
            <a:ext cx="4876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Ms. Susan M. Pojer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Horace Greeley HS   Chappaqua, NY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4300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58880"/>
            <a:ext cx="8610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uthorial Point of View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show awareness that the gender, occupation, class, religion, nationality, political position or ethnic identity of the author could influence his/her view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295880"/>
            <a:ext cx="70106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does this apply to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has the author written what he/she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0732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0200" y="2957400"/>
            <a:ext cx="72802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Balthasar Rusow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 Lutheran pasto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was naturally upset by the celebration of a Saint’s Day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ince Lutherans don’t venerate sain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5724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Reliability and accuracy of each source referenced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a source for its reliability and accuracy by questioning if the author of the document would be in a position to be accu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149800"/>
            <a:ext cx="6477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ight this help you answer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0" name=""/>
          <p:cNvSpPr/>
          <p:nvPr/>
        </p:nvSpPr>
        <p:spPr>
          <a:xfrm>
            <a:off x="581040" y="1814400"/>
            <a:ext cx="3000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698920"/>
            <a:ext cx="7543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Niccolo Machiavelli’s book on the political tactics of a Renaissance prince was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obably accurate as he observed the behavior of the prince, Cesare Borgia, for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01680"/>
            <a:ext cx="8001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Tone or Intent of the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the text of a document to determine its tone (satire, irony, indirect commentary, etc.) or the intent of the author. Especially useful for visual documents, like art work or political carto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01132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895480"/>
            <a:ext cx="7051680" cy="283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In his great sculpture of “David,” 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Michelangelo wanted to convey the confidence, and even arrogance, of Renaissance Florence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at the peak of its cultural influence in 16</a:t>
            </a:r>
            <a:r>
              <a:rPr b="1" i="1" lang="en-US" sz="30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Euro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19320" y="6858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408400"/>
            <a:ext cx="76201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Grouping of Docs. by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show an awareness that certain types of authors, simply by their authorship, will express similar views when you group documents by type of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5280" y="53352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0876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895480"/>
            <a:ext cx="7280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s Northern Renaissance humanis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Erasmus, Sir Thomas More, and Cervantes all poked fun at the foibles and scandals of late medieval society as well as of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680" y="38088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Reference a Document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n Your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362320"/>
            <a:ext cx="79246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Baldassare Castiglione, in </a:t>
            </a:r>
            <a:r>
              <a:rPr b="1" i="1" lang="en-US" sz="2800" spc="-1" strike="noStrike">
                <a:solidFill>
                  <a:srgbClr val="ff896d"/>
                </a:solidFill>
                <a:latin typeface="Comic Sans MS"/>
              </a:rPr>
              <a:t>The Handbook of the Court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said:  “………………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Erasmus of Rotterdam, a northern Christian humanis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agreed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19c historian, Jacob Burkhardt, felt that ………………….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(Doc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943600"/>
            <a:ext cx="7848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cc00"/>
                </a:solidFill>
                <a:uFillTx/>
                <a:latin typeface="Comic Sans MS"/>
              </a:rPr>
              <a:t>NEVER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 begin with:  </a:t>
            </a:r>
            <a:r>
              <a:rPr b="1" i="1" lang="en-US" sz="3000" spc="-1" strike="noStrike">
                <a:solidFill>
                  <a:srgbClr val="ff896d"/>
                </a:solidFill>
                <a:latin typeface="Comic Sans MS"/>
              </a:rPr>
              <a:t>In Document 3, 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609480"/>
            <a:ext cx="7696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019400"/>
            <a:ext cx="7010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Bottom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It holds it all together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3-4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45720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 "Dazzling" D. B. Q.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s Like a Tasty Hamburger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80880"/>
            <a:ext cx="7620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581120"/>
            <a:ext cx="86868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Restate your thesis statement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886200"/>
            <a:ext cx="73911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500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Beginning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some trend/movement/ide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90720" y="457200"/>
            <a:ext cx="73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Put It All Together And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Ummm...Burger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295280" y="54864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 Mean, "Dazzling"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8f"/>
                </a:solidFill>
                <a:latin typeface="Comic Sans MS"/>
              </a:rPr>
              <a:t>Create a rough draft in outline form using this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687840"/>
            <a:ext cx="739116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underline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highlight</a:t>
            </a:r>
            <a:r>
              <a:rPr b="1" lang="en-US" sz="2200" spc="-1" strike="noStrike">
                <a:solidFill>
                  <a:srgbClr val="e02b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096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Write out your introductory paragrap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Create a loose outline of your “meat” </a:t>
            </a:r>
            <a:r>
              <a:rPr b="1" lang="en-US" sz="25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s in this mann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2286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752480"/>
            <a:ext cx="8076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Skip a line after your last “meat”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and write you concluding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out in fu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Bring your outline into class tomorrow and I will divide the class up into small “peer review” grou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You will then read over the outlines of the other group members and make suggestions/corrections IN A CONSTRUCTIVE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5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143000"/>
            <a:ext cx="822960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1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2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3049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1539720"/>
            <a:ext cx="8001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3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45720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8080" y="457200"/>
            <a:ext cx="7543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Now, Write Your Essay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d "Dazzle" Me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With Your Brilliance 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895840" cy="24926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9" repeatCount="2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45720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44792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38280" y="4572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op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4-6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30492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82232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lish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reate a clear,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ude to the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8909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96d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533520"/>
            <a:ext cx="7848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4960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asty” par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8-12 sentences+ per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3049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27240"/>
            <a:ext cx="8381880" cy="547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 most of the documents give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70%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sure to indicate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Point-of-Vi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POV)/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ing in supportive outside informatio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o.i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  </a:t>
            </a:r>
            <a:r>
              <a:rPr b="1" i="1" lang="en-US" sz="2800" spc="-1" strike="noStrike" u="sng">
                <a:solidFill>
                  <a:srgbClr val="ff896d"/>
                </a:solidFill>
                <a:uFillTx/>
                <a:latin typeface="Comic Sans MS"/>
              </a:rPr>
              <a:t>This is critic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3049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Questions to Ask Yourself About the Document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381880" cy="429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Attribution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point of view (</a:t>
            </a: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POV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16480"/>
            <a:ext cx="85345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05596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ttribution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e the author by name, title, or position, if possible.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489480"/>
            <a:ext cx="64771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is this person and document selec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 does it help me answer the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05740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3400" y="2905200"/>
            <a:ext cx="6679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John Tyler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n English write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said: “...”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Dominican monk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in Florenc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scribe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supojer</cp:lastModifiedBy>
  <dcterms:modified xsi:type="dcterms:W3CDTF">2007-09-27T18:38:59Z</dcterms:modified>
  <cp:revision>105</cp:revision>
  <dc:subject/>
  <dc:title>How to Do an EHAP DBQ</dc:title>
</cp:coreProperties>
</file>